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DD6E-EA38-4109-BC20-2A645E7EE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5DE1-8AB9-4B83-9A23-015FC9469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BE07-9C81-480D-B615-1251503CB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5606-5D5E-40BB-A6A5-D245FAE08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6A5F9-FE1A-4663-9087-A4060F54E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9A3B3-F334-4470-BCE5-3FB6D4607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B1B7A-1BD7-41E1-919E-617F94E9F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82666-3138-4058-B710-5E78029B2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55EAC-1995-4A63-B380-9B7CEFC49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FB732-929D-4277-94EA-16A6651EE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33EDC-1359-4B5C-8ABA-BE2B1766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FDFB-198E-4F50-BB90-07512DAD8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E4869-363E-4EA0-8DF8-208F32A2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0C3AB-3AC2-4F47-8FF2-700093CA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98DAE-66CF-4095-96DA-9F2126DD8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24951-F135-4F6B-B105-7F561FB6B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26140-8FA2-489E-B946-03955E660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9396-C596-4001-8BFC-195DFAEB3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D1BC-4C8E-444F-8E7D-17D80758E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DFED-90B9-45C9-A931-EC7DFD8E9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253C-3D52-4355-BBEB-6DC553A7E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E70A-4A80-47BA-AC42-4C793B2B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ECA6-95F8-41A0-A823-C3269F31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573F-038E-4ADD-AD8D-2BFE8CC5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ec7aa"/>
            </a:gs>
            <a:gs pos="50000">
              <a:srgbClr val="e9e6d9"/>
            </a:gs>
            <a:gs pos="100000">
              <a:srgbClr val="cec7a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28600" y="3348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66633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27580-550C-4B25-A4CD-5F336F9DBD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1054080" y="165240"/>
            <a:ext cx="7696080" cy="685800"/>
            <a:chOff x="1054080" y="165240"/>
            <a:chExt cx="7696080" cy="685800"/>
          </a:xfrm>
        </p:grpSpPr>
        <p:sp>
          <p:nvSpPr>
            <p:cNvPr id="7" name=""/>
            <p:cNvSpPr/>
            <p:nvPr/>
          </p:nvSpPr>
          <p:spPr>
            <a:xfrm>
              <a:off x="1054080" y="165240"/>
              <a:ext cx="7696080" cy="685800"/>
            </a:xfrm>
            <a:custGeom>
              <a:avLst/>
              <a:gdLst/>
              <a:ahLst/>
              <a:rect l="l" t="t" r="r" b="b"/>
              <a:pathLst>
                <a:path w="4848" h="432">
                  <a:moveTo>
                    <a:pt x="4848" y="48"/>
                  </a:moveTo>
                  <a:lnTo>
                    <a:pt x="4848" y="432"/>
                  </a:lnTo>
                  <a:cubicBezTo>
                    <a:pt x="4848" y="432"/>
                    <a:pt x="2424" y="432"/>
                    <a:pt x="0" y="432"/>
                  </a:cubicBezTo>
                  <a:cubicBezTo>
                    <a:pt x="161" y="345"/>
                    <a:pt x="169" y="61"/>
                    <a:pt x="0" y="0"/>
                  </a:cubicBezTo>
                  <a:cubicBezTo>
                    <a:pt x="2424" y="0"/>
                    <a:pt x="4848" y="0"/>
                    <a:pt x="4848" y="0"/>
                  </a:cubicBezTo>
                  <a:lnTo>
                    <a:pt x="4848" y="48"/>
                  </a:lnTo>
                  <a:close/>
                </a:path>
              </a:pathLst>
            </a:custGeom>
            <a:solidFill>
              <a:srgbClr val="b6ab82"/>
            </a:solidFill>
            <a:ln w="9360">
              <a:solidFill>
                <a:srgbClr val="cec7a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" name=""/>
            <p:cNvGrpSpPr/>
            <p:nvPr/>
          </p:nvGrpSpPr>
          <p:grpSpPr>
            <a:xfrm>
              <a:off x="1897200" y="165240"/>
              <a:ext cx="6075360" cy="680400"/>
              <a:chOff x="1897200" y="165240"/>
              <a:chExt cx="6075360" cy="680400"/>
            </a:xfrm>
          </p:grpSpPr>
          <p:grpSp>
            <p:nvGrpSpPr>
              <p:cNvPr id="9" name=""/>
              <p:cNvGrpSpPr/>
              <p:nvPr/>
            </p:nvGrpSpPr>
            <p:grpSpPr>
              <a:xfrm>
                <a:off x="1897200" y="166680"/>
                <a:ext cx="3505320" cy="677160"/>
                <a:chOff x="1897200" y="166680"/>
                <a:chExt cx="3505320" cy="677160"/>
              </a:xfrm>
            </p:grpSpPr>
            <p:sp>
              <p:nvSpPr>
                <p:cNvPr id="10" name=""/>
                <p:cNvSpPr/>
                <p:nvPr/>
              </p:nvSpPr>
              <p:spPr>
                <a:xfrm>
                  <a:off x="3859560" y="788400"/>
                  <a:ext cx="11160" cy="1260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3978360" y="831240"/>
                  <a:ext cx="14400" cy="1260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3642120" y="761400"/>
                  <a:ext cx="20520" cy="2196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3399120" y="782280"/>
                  <a:ext cx="17280" cy="756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3326040" y="791640"/>
                  <a:ext cx="44640" cy="2520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3279960" y="790200"/>
                  <a:ext cx="46080" cy="2484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3030840" y="651960"/>
                  <a:ext cx="239760" cy="14724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3177000" y="642600"/>
                  <a:ext cx="106200" cy="10764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3279960" y="691560"/>
                  <a:ext cx="74520" cy="2052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3276720" y="717120"/>
                  <a:ext cx="50760" cy="5364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3362760" y="686880"/>
                  <a:ext cx="25200" cy="3132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3368880" y="736200"/>
                  <a:ext cx="31680" cy="1548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3402360" y="712440"/>
                  <a:ext cx="41040" cy="2664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3413520" y="725040"/>
                  <a:ext cx="193680" cy="9648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3581640" y="734400"/>
                  <a:ext cx="52560" cy="4104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3692880" y="647280"/>
                  <a:ext cx="12600" cy="900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3759480" y="710640"/>
                  <a:ext cx="17280" cy="1260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3545280" y="56772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3432600" y="63468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3308760" y="613800"/>
                  <a:ext cx="54000" cy="4248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291120" y="523440"/>
                  <a:ext cx="63360" cy="9180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306960" y="590040"/>
                  <a:ext cx="22320" cy="2664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3262680" y="596520"/>
                  <a:ext cx="29880" cy="2664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4927680" y="559800"/>
                  <a:ext cx="474840" cy="28404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4299120" y="167760"/>
                  <a:ext cx="666720" cy="4489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094280" y="489960"/>
                  <a:ext cx="24120" cy="2520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4075200" y="480600"/>
                  <a:ext cx="25560" cy="1872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4845240" y="428040"/>
                  <a:ext cx="115920" cy="5220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4967640" y="470880"/>
                  <a:ext cx="93600" cy="2376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918320" y="483840"/>
                  <a:ext cx="38160" cy="216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892760" y="415440"/>
                  <a:ext cx="25560" cy="2808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5094720" y="501120"/>
                  <a:ext cx="29880" cy="4248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4556520" y="175680"/>
                  <a:ext cx="325440" cy="6480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0" bIns="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4268880" y="174240"/>
                  <a:ext cx="301680" cy="3132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3603960" y="220320"/>
                  <a:ext cx="28440" cy="1548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2826000" y="174240"/>
                  <a:ext cx="692280" cy="24084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3519720" y="166680"/>
                  <a:ext cx="31680" cy="86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960" bIns="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3500640" y="239400"/>
                  <a:ext cx="93600" cy="5364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3400560" y="290160"/>
                  <a:ext cx="127080" cy="1137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84800" y="323280"/>
                  <a:ext cx="9720" cy="612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773440" y="401040"/>
                  <a:ext cx="551160" cy="29988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2870280" y="607680"/>
                  <a:ext cx="30240" cy="4572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3292560" y="451800"/>
                  <a:ext cx="28800" cy="378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3373560" y="433080"/>
                  <a:ext cx="14400" cy="1548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1897200" y="282240"/>
                  <a:ext cx="687600" cy="56160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2163960" y="493200"/>
                  <a:ext cx="258840" cy="35064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2619720" y="753480"/>
                  <a:ext cx="11160" cy="1872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2605320" y="572760"/>
                  <a:ext cx="14400" cy="108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0" bIns="-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1978200" y="350280"/>
                  <a:ext cx="39600" cy="1548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2457720" y="204480"/>
                  <a:ext cx="468360" cy="36936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2138760" y="175680"/>
                  <a:ext cx="938160" cy="15048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2329200" y="231480"/>
                  <a:ext cx="20520" cy="1548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2305440" y="253440"/>
                  <a:ext cx="29880" cy="1728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2403720" y="318600"/>
                  <a:ext cx="50760" cy="93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2491200" y="317160"/>
                  <a:ext cx="28440" cy="2340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2257560" y="252000"/>
                  <a:ext cx="22320" cy="1548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" name=""/>
              <p:cNvGrpSpPr/>
              <p:nvPr/>
            </p:nvGrpSpPr>
            <p:grpSpPr>
              <a:xfrm>
                <a:off x="6164640" y="165240"/>
                <a:ext cx="1807920" cy="680400"/>
                <a:chOff x="6164640" y="165240"/>
                <a:chExt cx="1807920" cy="68040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7909200" y="761760"/>
                  <a:ext cx="20520" cy="2196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7666200" y="782640"/>
                  <a:ext cx="17640" cy="756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593120" y="792000"/>
                  <a:ext cx="44640" cy="2520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7547400" y="790560"/>
                  <a:ext cx="45720" cy="2484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297920" y="652320"/>
                  <a:ext cx="239760" cy="14724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444080" y="642960"/>
                  <a:ext cx="106200" cy="10764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7547400" y="691920"/>
                  <a:ext cx="74520" cy="2052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7544160" y="717480"/>
                  <a:ext cx="50760" cy="5364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629840" y="687240"/>
                  <a:ext cx="25200" cy="3132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7635960" y="736560"/>
                  <a:ext cx="32040" cy="1548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7669440" y="712800"/>
                  <a:ext cx="41400" cy="2664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7680600" y="725400"/>
                  <a:ext cx="193680" cy="9648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7848720" y="734760"/>
                  <a:ext cx="52560" cy="4104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7959960" y="647640"/>
                  <a:ext cx="12600" cy="900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7812360" y="56808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7699680" y="63504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7575840" y="614160"/>
                  <a:ext cx="54000" cy="4248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7558200" y="523800"/>
                  <a:ext cx="63720" cy="9180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7574040" y="590400"/>
                  <a:ext cx="22320" cy="2664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7529760" y="596880"/>
                  <a:ext cx="30240" cy="2664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7871040" y="220680"/>
                  <a:ext cx="28440" cy="1548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7091640" y="174600"/>
                  <a:ext cx="695160" cy="240840"/>
                </a:xfrm>
                <a:custGeom>
                  <a:avLst/>
                  <a:gdLst/>
                  <a:ahLst/>
                  <a:rect l="l" t="t" r="r" b="b"/>
                  <a:pathLst>
                    <a:path w="438" h="152">
                      <a:moveTo>
                        <a:pt x="73" y="1"/>
                      </a:moveTo>
                      <a:lnTo>
                        <a:pt x="438" y="0"/>
                      </a:lnTo>
                      <a:cubicBezTo>
                        <a:pt x="432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7786800" y="165240"/>
                  <a:ext cx="32040" cy="8712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7767720" y="239760"/>
                  <a:ext cx="93960" cy="5364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7668000" y="290520"/>
                  <a:ext cx="126720" cy="1137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7751880" y="323640"/>
                  <a:ext cx="9720" cy="612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7040880" y="401400"/>
                  <a:ext cx="550800" cy="29988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7137720" y="608040"/>
                  <a:ext cx="30240" cy="4572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7560000" y="452160"/>
                  <a:ext cx="28440" cy="378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7641000" y="433440"/>
                  <a:ext cx="14040" cy="1548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6164640" y="284040"/>
                  <a:ext cx="687240" cy="56160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6431040" y="495360"/>
                  <a:ext cx="258840" cy="35028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6886800" y="753840"/>
                  <a:ext cx="11160" cy="1872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6872400" y="573120"/>
                  <a:ext cx="14400" cy="108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0" bIns="-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6245640" y="350640"/>
                  <a:ext cx="39600" cy="1548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6724800" y="204840"/>
                  <a:ext cx="468360" cy="36936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6405840" y="176040"/>
                  <a:ext cx="938160" cy="15048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6596280" y="231840"/>
                  <a:ext cx="20520" cy="1548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6572520" y="253800"/>
                  <a:ext cx="30240" cy="1728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6670800" y="318960"/>
                  <a:ext cx="50760" cy="93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6758280" y="317520"/>
                  <a:ext cx="28440" cy="2340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6525000" y="252360"/>
                  <a:ext cx="21960" cy="1548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9" name=""/>
            <p:cNvGrpSpPr/>
            <p:nvPr/>
          </p:nvGrpSpPr>
          <p:grpSpPr>
            <a:xfrm>
              <a:off x="1266840" y="176040"/>
              <a:ext cx="7464240" cy="663840"/>
              <a:chOff x="1266840" y="176040"/>
              <a:chExt cx="7464240" cy="663840"/>
            </a:xfrm>
          </p:grpSpPr>
          <p:sp>
            <p:nvSpPr>
              <p:cNvPr id="110" name=""/>
              <p:cNvSpPr/>
              <p:nvPr/>
            </p:nvSpPr>
            <p:spPr>
              <a:xfrm>
                <a:off x="1266840" y="527040"/>
                <a:ext cx="7464240" cy="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62864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99080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35260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71476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07656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43836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80052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16232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52448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88628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24844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61024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97204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33420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69600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05816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41996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78176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14392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0572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1917720" y="173160"/>
              <a:ext cx="5864040" cy="671040"/>
              <a:chOff x="1917720" y="173160"/>
              <a:chExt cx="5864040" cy="671040"/>
            </a:xfrm>
          </p:grpSpPr>
          <p:sp>
            <p:nvSpPr>
              <p:cNvPr id="132" name=""/>
              <p:cNvSpPr/>
              <p:nvPr/>
            </p:nvSpPr>
            <p:spPr>
              <a:xfrm>
                <a:off x="4524120" y="174600"/>
                <a:ext cx="0" cy="22500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717800" y="527040"/>
                <a:ext cx="111240" cy="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886280" y="555480"/>
                <a:ext cx="0" cy="4428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248080" y="714240"/>
                <a:ext cx="0" cy="12492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334200" y="352440"/>
                <a:ext cx="0" cy="28512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184800" y="527040"/>
                <a:ext cx="552600" cy="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696000" y="374400"/>
                <a:ext cx="0" cy="46656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V="1">
                <a:off x="6699240" y="177480"/>
                <a:ext cx="0" cy="7884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V="1">
                <a:off x="7057800" y="174240"/>
                <a:ext cx="0" cy="28836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7296120" y="527040"/>
                <a:ext cx="123840" cy="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7086240" y="527040"/>
                <a:ext cx="98280" cy="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V="1">
                <a:off x="7419960" y="174240"/>
                <a:ext cx="0" cy="42804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781760" y="745920"/>
                <a:ext cx="0" cy="5364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438360" y="180720"/>
                <a:ext cx="0" cy="9828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076560" y="176040"/>
                <a:ext cx="0" cy="53460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>
                <a:off x="3035160" y="527040"/>
                <a:ext cx="108000" cy="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822400" y="527040"/>
                <a:ext cx="95400" cy="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>
                <a:off x="2504880" y="527040"/>
                <a:ext cx="130320" cy="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917720" y="527040"/>
                <a:ext cx="552240" cy="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349360" y="371520"/>
                <a:ext cx="0" cy="47268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990800" y="399960"/>
                <a:ext cx="0" cy="24732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V="1">
                <a:off x="2352600" y="173160"/>
                <a:ext cx="0" cy="4248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714400" y="285480"/>
                <a:ext cx="0" cy="15228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2714400" y="176040"/>
                <a:ext cx="0" cy="3456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777000" y="525240"/>
                <a:ext cx="127080" cy="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6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4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cec7aa"/>
                </a:gs>
                <a:gs pos="50000">
                  <a:srgbClr val="e9e6d9"/>
                </a:gs>
                <a:gs pos="100000">
                  <a:srgbClr val="cec7a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6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b6a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7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a092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a092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a092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a092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a092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a092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a092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a092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a092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a092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a092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61617-A9E5-4FA8-8F3A-62ABEB70D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511200" y="246060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Helvetic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greatbear.org/brownbear.htm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allrecipes.com/Recipe/Russian-Tea-Cakes-I/Detail.aspx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www.darsie.net/talesofwonder/russia/babayaga.html" TargetMode="External"/><Relationship Id="rId7" Type="http://schemas.openxmlformats.org/officeDocument/2006/relationships/hyperlink" Target="http://www.darsie.net/talesofwonder/russia/babayaga.html" TargetMode="External"/><Relationship Id="rId8" Type="http://schemas.openxmlformats.org/officeDocument/2006/relationships/image" Target="../media/image2.png"/><Relationship Id="rId9" Type="http://schemas.openxmlformats.org/officeDocument/2006/relationships/hyperlink" Target="http://k12east.mrdonn.org/russiandolls.html" TargetMode="External"/><Relationship Id="rId10" Type="http://schemas.openxmlformats.org/officeDocument/2006/relationships/hyperlink" Target="http://k12east.mrdonn.org/russiandolls.html" TargetMode="External"/><Relationship Id="rId11" Type="http://schemas.openxmlformats.org/officeDocument/2006/relationships/hyperlink" Target="http://k12east.mrdonn.org/russiandolls.html" TargetMode="External"/><Relationship Id="rId12" Type="http://schemas.openxmlformats.org/officeDocument/2006/relationships/image" Target="../media/image2.png"/><Relationship Id="rId13" Type="http://schemas.openxmlformats.org/officeDocument/2006/relationships/hyperlink" Target="http://www.for-ballet-lovers-only.com/bolshoicorsaire2007.html" TargetMode="External"/><Relationship Id="rId14" Type="http://schemas.openxmlformats.org/officeDocument/2006/relationships/image" Target="../media/image2.png"/><Relationship Id="rId15" Type="http://schemas.openxmlformats.org/officeDocument/2006/relationships/hyperlink" Target="http://tostanoski.com/pysanky.html" TargetMode="External"/><Relationship Id="rId16" Type="http://schemas.openxmlformats.org/officeDocument/2006/relationships/hyperlink" Target="http://tostanoski.com/pysanky.html" TargetMode="External"/><Relationship Id="rId1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ww.kidsculturecenter.com/russia/russ_edu.htm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library.thinkquest.org/CR0212302/russia.html" TargetMode="External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allrecipes.com/Search/Recipes.aspx?WithTerm=Russia" TargetMode="External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kidskonnect.com/Russia/RussiaHome.html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www.travelforkids.com/Funtodo/Russia/russia.htm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edupics.com/coloring-pages-pictures-book-russia-237.htm" TargetMode="External"/><Relationship Id="rId7" Type="http://schemas.openxmlformats.org/officeDocument/2006/relationships/image" Target="../media/image2.png"/><Relationship Id="rId8" Type="http://schemas.openxmlformats.org/officeDocument/2006/relationships/hyperlink" Target="http://www.kidsculturecenter.com/russia/russ_holiday.htm" TargetMode="External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hermitagemuseum.org/html_En/08/hm88_0.html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http://www.travelforkids.com/Funtodo/Russia/peterandpaulfortress.htm" TargetMode="External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travelforkids.com/Funtodo/Russia/pushkin.htm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www.pbase.com/hiker_photograph/catherines_palac" TargetMode="External"/><Relationship Id="rId5" Type="http://schemas.openxmlformats.org/officeDocument/2006/relationships/image" Target="../media/image20.jpeg"/><Relationship Id="rId6" Type="http://schemas.openxmlformats.org/officeDocument/2006/relationships/image" Target="../media/image2.png"/><Relationship Id="rId7" Type="http://schemas.openxmlformats.org/officeDocument/2006/relationships/hyperlink" Target="http://www.travelforkids.com/Funtodo/Russia/peterhof.htm" TargetMode="External"/><Relationship Id="rId8" Type="http://schemas.openxmlformats.org/officeDocument/2006/relationships/image" Target="../media/image2.png"/><Relationship Id="rId9" Type="http://schemas.openxmlformats.org/officeDocument/2006/relationships/hyperlink" Target="http://www.peterhof.org/english/pano/" TargetMode="External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1.jpeg"/><Relationship Id="rId1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6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33"/>
                </a:solidFill>
                <a:latin typeface="Times New Roman"/>
              </a:rPr>
              <a:t>Let’s Learn About Russia</a:t>
            </a: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3276720" y="5943240"/>
            <a:ext cx="35049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flags.net/RUSS.h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2666880" y="3505320"/>
            <a:ext cx="3478320" cy="23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ec7aa"/>
            </a:gs>
            <a:gs pos="50000">
              <a:srgbClr val="e9e6d9"/>
            </a:gs>
            <a:gs pos="100000">
              <a:srgbClr val="cec7a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33"/>
                </a:solidFill>
                <a:latin typeface="Times New Roman"/>
              </a:rPr>
              <a:t>Russia is famous for…</a:t>
            </a:r>
            <a:br>
              <a:rPr sz="4400"/>
            </a:br>
            <a:r>
              <a:rPr b="0" i="1" lang="en-US" sz="1400" spc="-1" strike="noStrike">
                <a:solidFill>
                  <a:srgbClr val="666633"/>
                </a:solidFill>
                <a:latin typeface="Times New Roman"/>
              </a:rPr>
              <a:t>(Click on each name for more information.)</a:t>
            </a:r>
            <a:endParaRPr b="0" i="1" lang="en-US" sz="1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6ab82"/>
                </a:solidFill>
                <a:uFillTx/>
                <a:latin typeface="Comic Sans MS"/>
                <a:hlinkClick r:id="rId2"/>
              </a:rPr>
              <a:t>The Brown B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6ab82"/>
                </a:solidFill>
                <a:uFillTx/>
                <a:latin typeface="Comic Sans MS"/>
                <a:hlinkClick r:id="rId4"/>
              </a:rPr>
              <a:t>Russian Teaca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6ab82"/>
                </a:solidFill>
                <a:uFillTx/>
                <a:latin typeface="Comic Sans MS"/>
                <a:hlinkClick r:id="rId6"/>
              </a:rPr>
              <a:t>Baba </a:t>
            </a:r>
            <a:r>
              <a:rPr b="0" lang="en-US" sz="3200" spc="-1" strike="noStrike" u="sng">
                <a:solidFill>
                  <a:srgbClr val="b6ab82"/>
                </a:solidFill>
                <a:uFillTx/>
                <a:latin typeface="Comic Sans MS"/>
                <a:hlinkClick r:id="rId7"/>
              </a:rPr>
              <a:t>Ya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6ab82"/>
                </a:solidFill>
                <a:uFillTx/>
                <a:latin typeface="Comic Sans MS"/>
                <a:hlinkClick r:id="rId9"/>
              </a:rPr>
              <a:t>Russian Nesting</a:t>
            </a:r>
            <a:r>
              <a:rPr b="0" lang="en-US" sz="3200" spc="-1" strike="noStrike" u="sng">
                <a:solidFill>
                  <a:srgbClr val="b6ab82"/>
                </a:solidFill>
                <a:uFillTx/>
                <a:latin typeface="Comic Sans MS"/>
                <a:hlinkClick r:id="rId10"/>
              </a:rPr>
              <a:t> </a:t>
            </a:r>
            <a:r>
              <a:rPr b="0" lang="en-US" sz="3200" spc="-1" strike="noStrike" u="sng">
                <a:solidFill>
                  <a:srgbClr val="b6ab82"/>
                </a:solidFill>
                <a:uFillTx/>
                <a:latin typeface="Comic Sans MS"/>
                <a:hlinkClick r:id="rId11"/>
              </a:rPr>
              <a:t>Dol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6ab82"/>
                </a:solidFill>
                <a:uFillTx/>
                <a:latin typeface="Comic Sans MS"/>
                <a:hlinkClick r:id="rId13"/>
              </a:rPr>
              <a:t>Bal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6ab82"/>
                </a:solidFill>
                <a:uFillTx/>
                <a:latin typeface="Comic Sans MS"/>
                <a:hlinkClick r:id="rId15"/>
              </a:rPr>
              <a:t>Ukrainian </a:t>
            </a:r>
            <a:r>
              <a:rPr b="0" lang="en-US" sz="3200" spc="-1" strike="noStrike" u="sng">
                <a:solidFill>
                  <a:srgbClr val="b6ab82"/>
                </a:solidFill>
                <a:uFillTx/>
                <a:latin typeface="Comic Sans MS"/>
                <a:hlinkClick r:id="rId16"/>
              </a:rPr>
              <a:t>pysan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ec7aa"/>
            </a:gs>
            <a:gs pos="50000">
              <a:srgbClr val="e9e6d9"/>
            </a:gs>
            <a:gs pos="100000">
              <a:srgbClr val="cec7a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33"/>
                </a:solidFill>
                <a:latin typeface="Times New Roman"/>
              </a:rPr>
              <a:t>What Russian Kids Do</a:t>
            </a: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ussian children love ice skating, sledding and playing ice hockey in the winter and swimming and boating in the summ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 out about schools in Russia at this website - </a:t>
            </a:r>
            <a:r>
              <a:rPr b="0" lang="en-US" sz="2400" spc="-1" strike="noStrike" u="sng">
                <a:solidFill>
                  <a:srgbClr val="b6ab82"/>
                </a:solidFill>
                <a:uFillTx/>
                <a:latin typeface="Comic Sans MS"/>
                <a:hlinkClick r:id="rId3"/>
              </a:rPr>
              <a:t>www.kidsculturecenter.com/russia/russ_edu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 out about daily life in Russia at this site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 u="sng">
                <a:solidFill>
                  <a:srgbClr val="b6ab82"/>
                </a:solidFill>
                <a:uFillTx/>
                <a:latin typeface="Comic Sans MS"/>
                <a:hlinkClick r:id="rId5"/>
              </a:rPr>
              <a:t>http://library.thinkquest.org/CR0212302/russia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ec7aa"/>
            </a:gs>
            <a:gs pos="50000">
              <a:srgbClr val="e9e6d9"/>
            </a:gs>
            <a:gs pos="100000">
              <a:srgbClr val="cec7a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33"/>
                </a:solidFill>
                <a:latin typeface="Times New Roman"/>
              </a:rPr>
              <a:t>What Russians Like to Eat</a:t>
            </a: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09120" y="4419360"/>
            <a:ext cx="8001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ww.world-recipes.info/russia-russian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b6ab82"/>
                </a:solidFill>
                <a:uFillTx/>
                <a:latin typeface="Comic Sans MS"/>
                <a:hlinkClick r:id="rId3"/>
              </a:rPr>
              <a:t>http://allrecipes.com/Search/Recipes.aspx?WithTerm=Rus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4"/>
          <a:stretch/>
        </p:blipFill>
        <p:spPr>
          <a:xfrm>
            <a:off x="6248520" y="1752480"/>
            <a:ext cx="1778040" cy="177804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5638680" y="3733920"/>
            <a:ext cx="320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http://allrecipes.com/Recipe/Borscht-I/Detail.asp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5"/>
          <a:stretch/>
        </p:blipFill>
        <p:spPr>
          <a:xfrm>
            <a:off x="990720" y="1752480"/>
            <a:ext cx="1778040" cy="17780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457200" y="3657600"/>
            <a:ext cx="3352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http://allrecipes.com/Recipe/Kartoshnik-with-Cheese-and-Onions/Detail.asp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09480" y="4343400"/>
            <a:ext cx="689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to these websites for some Russian reci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ec7aa"/>
            </a:gs>
            <a:gs pos="50000">
              <a:srgbClr val="e9e6d9"/>
            </a:gs>
            <a:gs pos="100000">
              <a:srgbClr val="cec7a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33"/>
                </a:solidFill>
                <a:latin typeface="Times New Roman"/>
              </a:rPr>
              <a:t>Some Famous Russians</a:t>
            </a: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uri Gagarin - first man in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khail Gorbachev - leader of the Soviet Union who made the country more free and democr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na Pavlova - world-famous baller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ter Tchaikovsky - a composer who wrote the music 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The Nutcrac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rgey Prokofiev - wrote the words and music 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eter and the Wo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ec7aa"/>
            </a:gs>
            <a:gs pos="50000">
              <a:srgbClr val="e9e6d9"/>
            </a:gs>
            <a:gs pos="100000">
              <a:srgbClr val="cec7a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33"/>
                </a:solidFill>
                <a:latin typeface="Times New Roman"/>
              </a:rPr>
              <a:t>Learn More About Russia</a:t>
            </a: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Russ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b6ab82"/>
                </a:solidFill>
                <a:uFillTx/>
                <a:latin typeface="Comic Sans MS"/>
                <a:ea typeface="Arial"/>
                <a:hlinkClick r:id="rId2"/>
              </a:rPr>
              <a:t>www.kidskonnect.com/Russia/RussiaHome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Travel for Kids - Russ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b6ab82"/>
                </a:solidFill>
                <a:uFillTx/>
                <a:latin typeface="Comic Sans MS"/>
                <a:ea typeface="Arial"/>
                <a:hlinkClick r:id="rId4"/>
              </a:rPr>
              <a:t>www.travelforkids.com/Funtodo/Russia/russia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Coloring Pages – Russ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b6ab82"/>
                </a:solidFill>
                <a:uFillTx/>
                <a:latin typeface="Comic Sans MS"/>
                <a:ea typeface="Arial"/>
                <a:hlinkClick r:id="rId6"/>
              </a:rPr>
              <a:t>http://edupics.com/coloring-pages-pictures-book-russia-237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295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Kids Culture Center – Russ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b6ab82"/>
                </a:solidFill>
                <a:uFillTx/>
                <a:latin typeface="Comic Sans MS"/>
                <a:ea typeface="Arial"/>
                <a:hlinkClick r:id="rId8"/>
              </a:rPr>
              <a:t>http://www.kidsculturecenter.com/russia/russ_holiday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295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Russ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80"/>
                </a:solidFill>
                <a:uFillTx/>
                <a:latin typeface="Comic Sans MS"/>
                <a:ea typeface="Arial"/>
              </a:rPr>
              <a:t>http://www.oxfam.org.uk/coolplanet/kidsweb/wakeup/index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Russi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80"/>
                </a:solidFill>
                <a:uFillTx/>
                <a:latin typeface="Comic Sans MS"/>
                <a:ea typeface="Arial"/>
              </a:rPr>
              <a:t>http://library.thinkquest.org/TQ0312267/russia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Russ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80"/>
                </a:solidFill>
                <a:uFillTx/>
                <a:latin typeface="Comic Sans MS"/>
                <a:ea typeface="Arial"/>
              </a:rPr>
              <a:t>http://www.uen.org/utahlink/tours/tourFames.cgi?tour_id=80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ec7aa"/>
            </a:gs>
            <a:gs pos="50000">
              <a:srgbClr val="e9e6d9"/>
            </a:gs>
            <a:gs pos="100000">
              <a:srgbClr val="cec7a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33"/>
                </a:solidFill>
                <a:latin typeface="Times New Roman"/>
              </a:rPr>
              <a:t>More Good Websites</a:t>
            </a: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Time for Kids – Russ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80"/>
                </a:solidFill>
                <a:uFillTx/>
                <a:latin typeface="Comic Sans MS"/>
                <a:ea typeface="Arial"/>
              </a:rPr>
              <a:t>www.timeforkids.com/TFK/hh/goplaces/main/0,20344,595847,00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Kids from Russ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80"/>
                </a:solidFill>
                <a:uFillTx/>
                <a:latin typeface="Comic Sans MS"/>
                <a:ea typeface="Arial"/>
              </a:rPr>
              <a:t>http://www.factmonster.com/ipka/A0930073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Peace Corps Kids World – Russ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80"/>
                </a:solidFill>
                <a:uFillTx/>
                <a:latin typeface="Comic Sans MS"/>
                <a:ea typeface="Arial"/>
              </a:rPr>
              <a:t>www.peacecorps.gov/kids/world/europemed/russia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ec7aa"/>
            </a:gs>
            <a:gs pos="50000">
              <a:srgbClr val="e9e6d9"/>
            </a:gs>
            <a:gs pos="100000">
              <a:srgbClr val="cec7a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33"/>
                </a:solidFill>
                <a:latin typeface="Times New Roman"/>
              </a:rPr>
              <a:t>Books to Read</a:t>
            </a: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Discovering Cultures- Russia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 Sarah DeCapua. Marshall Cavendish Corporation. 200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A Ticket to Russia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 Tom Streissguth. Carolrhoda Books, Inc. 1997. Excellent for 3-5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Russia: A Portrait of the Country Through Its Festivals and Traditions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  Grolier. 199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Celebrating Birthdays in Russia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 Cheryl L. Enderlein. Capstone Press. 199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Russia ABCs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 Ann Berge. Picture Window Books. 200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ec7aa"/>
            </a:gs>
            <a:gs pos="50000">
              <a:srgbClr val="e9e6d9"/>
            </a:gs>
            <a:gs pos="100000">
              <a:srgbClr val="cec7a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33"/>
                </a:solidFill>
                <a:latin typeface="Times New Roman"/>
              </a:rPr>
              <a:t>Where is Russia?</a:t>
            </a: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5132160" cy="37958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flipV="1">
            <a:off x="1066680" y="3429000"/>
            <a:ext cx="495324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ec7aa"/>
            </a:gs>
            <a:gs pos="50000">
              <a:srgbClr val="e9e6d9"/>
            </a:gs>
            <a:gs pos="100000">
              <a:srgbClr val="cec7a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33"/>
                </a:solidFill>
                <a:latin typeface="Times New Roman"/>
              </a:rPr>
              <a:t>Map of Russia</a:t>
            </a: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6294240" cy="321624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3363120" y="5638680"/>
            <a:ext cx="16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flags.net/RUSS.h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ec7aa"/>
            </a:gs>
            <a:gs pos="50000">
              <a:srgbClr val="e9e6d9"/>
            </a:gs>
            <a:gs pos="100000">
              <a:srgbClr val="cec7a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33"/>
                </a:solidFill>
                <a:latin typeface="Times New Roman"/>
              </a:rPr>
              <a:t>Facts About Russia</a:t>
            </a: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capital of Russia is Mosc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population of Russia is 149,476,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money used is the ru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language spoken is Russi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ec7aa"/>
            </a:gs>
            <a:gs pos="50000">
              <a:srgbClr val="e9e6d9"/>
            </a:gs>
            <a:gs pos="100000">
              <a:srgbClr val="cec7a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33"/>
                </a:solidFill>
                <a:latin typeface="Times New Roman"/>
              </a:rPr>
              <a:t>Let’s visit some important cities in Russia.</a:t>
            </a: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123720" y="175212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sc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304920" y="2286000"/>
            <a:ext cx="2684520" cy="35053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81480" y="1676520"/>
            <a:ext cx="3657600" cy="234144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4"/>
          <a:stretch/>
        </p:blipFill>
        <p:spPr>
          <a:xfrm>
            <a:off x="3276720" y="3352680"/>
            <a:ext cx="2217600" cy="320040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5"/>
          <a:stretch/>
        </p:blipFill>
        <p:spPr>
          <a:xfrm>
            <a:off x="5867280" y="4343400"/>
            <a:ext cx="2971800" cy="209088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295280" y="6400800"/>
            <a:ext cx="16322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galenfrysinger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ec7aa"/>
            </a:gs>
            <a:gs pos="50000">
              <a:srgbClr val="e9e6d9"/>
            </a:gs>
            <a:gs pos="100000">
              <a:srgbClr val="cec7a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2742840" y="990360"/>
            <a:ext cx="3429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. Petersbu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533520" y="1676520"/>
            <a:ext cx="3130560" cy="434340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3"/>
          <a:stretch/>
        </p:blipFill>
        <p:spPr>
          <a:xfrm>
            <a:off x="5562720" y="1523880"/>
            <a:ext cx="3276360" cy="319752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4"/>
          <a:stretch/>
        </p:blipFill>
        <p:spPr>
          <a:xfrm>
            <a:off x="3733920" y="1600200"/>
            <a:ext cx="1787400" cy="259092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5"/>
          <a:stretch/>
        </p:blipFill>
        <p:spPr>
          <a:xfrm>
            <a:off x="3733920" y="4191120"/>
            <a:ext cx="1726920" cy="243828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441360" y="6469200"/>
            <a:ext cx="166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galenfrysinger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ec7aa"/>
            </a:gs>
            <a:gs pos="50000">
              <a:srgbClr val="e9e6d9"/>
            </a:gs>
            <a:gs pos="100000">
              <a:srgbClr val="cec7a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1904760" y="990360"/>
            <a:ext cx="4267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rkutsk, in Sib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3429000" cy="22543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5334120" y="1600200"/>
            <a:ext cx="3200400" cy="2224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4"/>
          <a:stretch/>
        </p:blipFill>
        <p:spPr>
          <a:xfrm>
            <a:off x="1066680" y="3962520"/>
            <a:ext cx="3276720" cy="22701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5"/>
          <a:stretch/>
        </p:blipFill>
        <p:spPr>
          <a:xfrm>
            <a:off x="5486400" y="3962520"/>
            <a:ext cx="3048120" cy="223668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3886200" y="6324480"/>
            <a:ext cx="2057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galenfrysinger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ec7aa"/>
            </a:gs>
            <a:gs pos="50000">
              <a:srgbClr val="e9e6d9"/>
            </a:gs>
            <a:gs pos="100000">
              <a:srgbClr val="cec7a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33"/>
                </a:solidFill>
                <a:latin typeface="Times New Roman"/>
              </a:rPr>
              <a:t>Famous Sights in Russia</a:t>
            </a: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467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b6ab82"/>
                </a:solidFill>
                <a:uFillTx/>
                <a:latin typeface="Comic Sans MS"/>
                <a:hlinkClick r:id="rId2"/>
              </a:rPr>
              <a:t>The Hermitage Museum-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lick on the name to see a virtual vis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Krem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b6ab82"/>
                </a:solidFill>
                <a:uFillTx/>
                <a:latin typeface="Comic Sans MS"/>
                <a:hlinkClick r:id="rId5"/>
              </a:rPr>
              <a:t>The Peter and Paul Fortres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lick on name to find out mo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6"/>
          <a:stretch/>
        </p:blipFill>
        <p:spPr>
          <a:xfrm>
            <a:off x="2514600" y="4572000"/>
            <a:ext cx="2743200" cy="181764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3124080" y="6324480"/>
            <a:ext cx="1657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russia.com/photos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ec7aa"/>
            </a:gs>
            <a:gs pos="50000">
              <a:srgbClr val="e9e6d9"/>
            </a:gs>
            <a:gs pos="100000">
              <a:srgbClr val="cec7a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33"/>
                </a:solidFill>
                <a:latin typeface="Times New Roman"/>
              </a:rPr>
              <a:t>Famous Palaces</a:t>
            </a:r>
            <a:br>
              <a:rPr sz="4400"/>
            </a:br>
            <a:r>
              <a:rPr b="0" i="1" lang="en-US" sz="1400" spc="-1" strike="noStrike">
                <a:solidFill>
                  <a:srgbClr val="666633"/>
                </a:solidFill>
                <a:latin typeface="Comic Sans MS"/>
              </a:rPr>
              <a:t>(click on the names to find out more)</a:t>
            </a:r>
            <a:endParaRPr b="0" i="1" lang="en-US" sz="1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31240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b6ab82"/>
                </a:solidFill>
                <a:uFillTx/>
                <a:latin typeface="Comic Sans MS"/>
                <a:hlinkClick r:id="rId2"/>
              </a:rPr>
              <a:t>Pushkin-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Catherine’s Pal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Go to this website to see more photos - </a:t>
            </a:r>
            <a:r>
              <a:rPr b="0" lang="en-US" sz="1400" spc="-1" strike="noStrike" u="sng">
                <a:solidFill>
                  <a:srgbClr val="b6ab82"/>
                </a:solidFill>
                <a:uFillTx/>
                <a:latin typeface="Comic Sans MS"/>
                <a:hlinkClick r:id="rId4"/>
              </a:rPr>
              <a:t>www.pbase.com/hiker_photograph/catherines_pal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5"/>
          <a:stretch/>
        </p:blipFill>
        <p:spPr>
          <a:xfrm>
            <a:off x="304920" y="3524400"/>
            <a:ext cx="3733560" cy="280008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609480" y="6324480"/>
            <a:ext cx="2895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pbase.com/hiker_photograph/image/4824697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952880" y="2133720"/>
            <a:ext cx="358164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b6ab82"/>
                </a:solidFill>
                <a:uFillTx/>
                <a:latin typeface="Comic Sans MS"/>
                <a:hlinkClick r:id="rId7"/>
              </a:rPr>
              <a:t>Peterhof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SzPct val="10295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Go to this website to see interactive panoramas of the entire palace- </a:t>
            </a:r>
            <a:r>
              <a:rPr b="0" lang="en-US" sz="1400" spc="-1" strike="noStrike" u="sng">
                <a:solidFill>
                  <a:srgbClr val="b6ab82"/>
                </a:solidFill>
                <a:uFillTx/>
                <a:latin typeface="Comic Sans MS"/>
                <a:hlinkClick r:id="rId9"/>
              </a:rPr>
              <a:t>www.peterhof.org/english/pano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SzPct val="10295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SzPct val="10295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SzPct val="10295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3"/>
          <a:stretch/>
        </p:blipFill>
        <p:spPr>
          <a:xfrm>
            <a:off x="4572000" y="3505320"/>
            <a:ext cx="3760920" cy="282096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5034600" y="6324480"/>
            <a:ext cx="328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00"/>
                </a:solidFill>
                <a:latin typeface="Comic Sans MS"/>
              </a:rPr>
              <a:t>www.euratlas.com/Atlas/ russia/peterhof_palace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4-01-01T00:00:00Z</dcterms:created>
  <dc:creator/>
  <dc:description/>
  <dc:language>en-US</dc:language>
  <cp:lastModifiedBy>Lynne Brosch</cp:lastModifiedBy>
  <cp:lastPrinted>1904-01-01T00:00:00Z</cp:lastPrinted>
  <dcterms:modified xsi:type="dcterms:W3CDTF">2007-07-30T18:21:44Z</dcterms:modified>
  <cp:revision>6</cp:revision>
  <dc:subject/>
  <dc:title>Let’s Learn About Russia</dc:title>
</cp:coreProperties>
</file>